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47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Технология производства мультимеди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386064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57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Занятие 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FC4A-0435-4005-B6D3-D97C030941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8636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235640" cy="53658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00360" y="692280"/>
            <a:ext cx="72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сновные этапы производства мультимеди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3598-B873-4401-B35A-BB3502392E5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35640" y="1017720"/>
            <a:ext cx="0" cy="554328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78200" y="1160640"/>
            <a:ext cx="44658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's Edge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р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n Communication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ет собой интегрированную инструментальную среду для разработчика стиля проекта (instructional designer], которая автоматически создает такие документы, как исходные цели, конечные группы пользователей, навигационные карты, стратегии разработк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цены и сценар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7440" y="2313000"/>
            <a:ext cx="4067280" cy="166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236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2560" y="260280"/>
            <a:ext cx="599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ограммы для разработки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C761-4ADB-4F06-B17D-965051D843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4308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92360" y="1376280"/>
            <a:ext cx="44658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ый сценарий про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5752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26920" y="2241720"/>
            <a:ext cx="7490160" cy="3485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96720" y="836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10160" y="260280"/>
            <a:ext cx="350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Разработка сценар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E091-C1A8-41B5-8194-18C0D916BFA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4328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бразец раскадровки при монтаже видеоклипа «Фабула Али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14520" y="187560"/>
            <a:ext cx="21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ска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FF2C-3A6A-45B8-89BC-E93A611DD8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визуального и аудио материала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МЕПрез\МультТехнЕМЕ2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27640" y="187560"/>
            <a:ext cx="602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визуального и аудио ря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7B1E-C3F4-4EA3-ADF0-39D13F0A45C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08360" y="170028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Технологии подготовки субтитров по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V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ан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МультТехнЕМЕ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04680" y="157320"/>
            <a:ext cx="359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одготовка субтит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9080" y="9079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FC226-ADA6-4627-8560-0B58B29FE4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08360" y="1962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ление сценария, прототипы,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моде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ализованные прототипы и модели в видеоклипах и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3D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цен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2168640"/>
            <a:ext cx="4356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През\ПрототипыФаб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VirtEnvNFabSn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0720" y="-28800"/>
            <a:ext cx="66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Технологии мультимедиа при разработ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лектронного учебного пособия 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E4814-E3A6-428A-931C-149A13B76ED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53:15Z</dcterms:modified>
  <cp:revision>98</cp:revision>
  <dc:subject/>
  <dc:title>Lecture Template </dc:title>
</cp:coreProperties>
</file>